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5872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1" marL="120636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2" marL="191772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3" marL="262908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4" marL="335268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5" marL="335268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6" marL="335268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269720" y="1168560"/>
            <a:ext cx="10464840" cy="741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0948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1" marL="1308240" indent="-55908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2" marL="201924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3" marL="273060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4" marL="3454560" indent="-55908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5" marL="3454560" indent="-55908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6" marL="3454560" indent="-55908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313704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0948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1" marL="130824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2" marL="201924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3" marL="273060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4" marL="345456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5" marL="345456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6" marL="345456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0"/>
            <a:ext cx="104648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1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2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3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4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5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6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70080" y="2769840"/>
            <a:ext cx="495288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43440" indent="-3225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770760" indent="-32292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145520" indent="-32292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572480" indent="-32292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1999080" indent="-3225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1999080" indent="-3225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1999080" indent="-3225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558720"/>
            <a:ext cx="10464840" cy="226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69720" y="2819160"/>
            <a:ext cx="1046484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19040" indent="-3934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93996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39716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91772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2438280" indent="-3934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2438280" indent="-3934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2438280" indent="-3934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1270080" y="2769840"/>
            <a:ext cx="495288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43440" indent="-3225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770760" indent="-32292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145520" indent="-32292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572480" indent="-32292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1999080" indent="-3225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1999080" indent="-3225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1999080" indent="-32256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353000" y="2769840"/>
            <a:ext cx="438156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309960" indent="-2908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695520" indent="-2912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033560" indent="-2912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418760" indent="-2912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1804320" indent="-2908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1804320" indent="-2908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1804320" indent="-2908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6108840" cy="528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5359320"/>
            <a:ext cx="6108840" cy="439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1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2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3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4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5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6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6S6IJWilpx4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K_xaHuelVj8" TargetMode="External"/><Relationship Id="rId3" Type="http://schemas.openxmlformats.org/officeDocument/2006/relationships/hyperlink" Target="http://www.youtube.com/watch?v=E6_j3sgfaGg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yfk3IO7sn54" TargetMode="External"/><Relationship Id="rId3" Type="http://schemas.openxmlformats.org/officeDocument/2006/relationships/hyperlink" Target="http://www.youtube.com/watch?v=DDyGl2uIQ-Q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466200"/>
            <a:ext cx="10464840" cy="264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Type of Plays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69720" y="3112560"/>
            <a:ext cx="1046484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Histories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Comedies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ragedies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3314880" y="2629080"/>
            <a:ext cx="6375240" cy="56307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1269720" y="1195200"/>
            <a:ext cx="10464840" cy="168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e hero is usually a member of the upper class.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4559400" y="2324160"/>
            <a:ext cx="3886200" cy="57150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269720" y="763200"/>
            <a:ext cx="10464840" cy="1663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e hero has a sudden reversal of fortune.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3632040" y="1282680"/>
            <a:ext cx="5740560" cy="717552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698400" y="608040"/>
            <a:ext cx="116078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Insanity and hallucinations are common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2235240" y="223524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1269720" y="63648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ere are often supernatural elements such as ghosts or witches.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2908440" y="2209680"/>
            <a:ext cx="7175520" cy="53355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269720" y="738360"/>
            <a:ext cx="1046484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Characters have outward and inner conflict.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Tragedies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52560" y="1969560"/>
            <a:ext cx="50292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Papyrus"/>
                <a:hlinkClick r:id="rId2"/>
              </a:rPr>
              <a:t>Romeo and Julie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Macbeth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King Lear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Papyrus"/>
              </a:rPr>
              <a:t>Hamle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Othello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itus Andronicus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22" name=""/>
          <p:cNvSpPr/>
          <p:nvPr/>
        </p:nvSpPr>
        <p:spPr>
          <a:xfrm>
            <a:off x="6667560" y="1854360"/>
            <a:ext cx="565128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  <a:ea typeface="Papyrus"/>
              </a:rPr>
              <a:t>Julius Caesar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  <a:ea typeface="Papyrus"/>
              </a:rPr>
              <a:t>Antony and Cleopatra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  <a:ea typeface="Papyrus"/>
              </a:rPr>
              <a:t>Coriolanus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  <a:ea typeface="Papyrus"/>
              </a:rPr>
              <a:t>Troilus and Cressida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  <a:ea typeface="Papyrus"/>
              </a:rPr>
              <a:t>Timon of Athens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  <a:ea typeface="Papyrus"/>
              </a:rPr>
              <a:t>Cymbeline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Histories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11000" y="2046240"/>
            <a:ext cx="4825800" cy="683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King John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Edward III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Richard II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Henry IV, Part 1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Henry IV, Part 2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Papyrus"/>
                <a:hlinkClick r:id="rId2"/>
              </a:rPr>
              <a:t>Henry V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92" name=""/>
          <p:cNvSpPr/>
          <p:nvPr/>
        </p:nvSpPr>
        <p:spPr>
          <a:xfrm>
            <a:off x="7226280" y="2590920"/>
            <a:ext cx="49910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  <a:ea typeface="Papyrus"/>
              </a:rPr>
              <a:t>Henry VI, Part 1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  <a:ea typeface="Papyrus"/>
              </a:rPr>
              <a:t>Henry VI, Part 2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  <a:ea typeface="Papyrus"/>
              </a:rPr>
              <a:t>Henry VI, Part 3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Papyrus"/>
                <a:ea typeface="Papyrus"/>
                <a:hlinkClick r:id="rId3"/>
              </a:rPr>
              <a:t>Richard III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  <a:ea typeface="Papyrus"/>
              </a:rPr>
              <a:t>Henry VIII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  <a:ea typeface="Papyrus"/>
              </a:rPr>
              <a:t>Sir Thomas More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4317840" y="4038480"/>
            <a:ext cx="4368960" cy="436896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omedies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A struggle of young lovers to overcome difficulty that is often presented by elders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3327480" y="2755800"/>
            <a:ext cx="6350040" cy="42418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69720" y="1170000"/>
            <a:ext cx="1046484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Mistaken identities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3886200" y="2108160"/>
            <a:ext cx="5219640" cy="55292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69720" y="1220400"/>
            <a:ext cx="10464840" cy="78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708480" indent="-51984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a14"/>
                </a:solidFill>
                <a:latin typeface="Papyrus"/>
              </a:rPr>
              <a:t>A clever servant</a:t>
            </a:r>
            <a:endParaRPr b="0" lang="en-US" sz="4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4064040" y="2006640"/>
            <a:ext cx="4879800" cy="57402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269720" y="1271160"/>
            <a:ext cx="1046484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Frequent use of puns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omedies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39960" y="2157120"/>
            <a:ext cx="5308560" cy="542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All's Well That Ends Well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As You Like It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The Comedy of Errors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Cymbeline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Love's Labour's Lost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Measure for Measure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The Merchant of Venice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The Merry Wives of Windsor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04" name=""/>
          <p:cNvSpPr/>
          <p:nvPr/>
        </p:nvSpPr>
        <p:spPr>
          <a:xfrm>
            <a:off x="6197760" y="2044800"/>
            <a:ext cx="627372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Papyrus"/>
                <a:ea typeface="Papyrus"/>
                <a:hlinkClick r:id="rId2"/>
              </a:rPr>
              <a:t>A Midsummer Night's Dream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  <a:ea typeface="Papyrus"/>
              </a:rPr>
              <a:t>Much Ado About Nothing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  <a:ea typeface="Papyrus"/>
              </a:rPr>
              <a:t>Pericles Prince of Tyre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  <a:ea typeface="Papyrus"/>
              </a:rPr>
              <a:t>Taming of the Shrew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Papyrus"/>
                <a:ea typeface="Papyrus"/>
              </a:rPr>
              <a:t>The Tempest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  <a:ea typeface="Papyrus"/>
              </a:rPr>
              <a:t>Twelfth Night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  <a:ea typeface="Papyrus"/>
              </a:rPr>
              <a:t>The Two Gentlemen of Ver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Papyrus"/>
                <a:ea typeface="Papyrus"/>
                <a:hlinkClick r:id="rId3"/>
              </a:rPr>
              <a:t>o</a:t>
            </a:r>
            <a:r>
              <a:rPr b="0" lang="en-US" sz="2800" spc="-1" strike="noStrike" u="sng">
                <a:solidFill>
                  <a:srgbClr val="2f1a14"/>
                </a:solidFill>
                <a:uFillTx/>
                <a:latin typeface="Papyrus"/>
                <a:ea typeface="Papyrus"/>
              </a:rPr>
              <a:t>na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  <a:ea typeface="Papyrus"/>
              </a:rPr>
              <a:t>The Winter's Tale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4749840" y="3835440"/>
            <a:ext cx="3497400" cy="494028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Tragedies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11360" y="2766600"/>
            <a:ext cx="1156968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lnSpc>
                <a:spcPct val="100000"/>
              </a:lnSpc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ragedy is a story of exceptional suffering and chaos.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2921040" y="2004840"/>
            <a:ext cx="7162920" cy="57294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The hero dies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